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AF4-303F-4E64-A3B8-B98F0651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7B2-E125-4537-AC19-1A7953C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BF3-A769-4CE3-AA63-C3495178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45E-3235-44D8-BB48-8D0952E8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AFB-6DA8-4B3B-A1E4-42A6837D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B1DF-55C5-42AC-82C2-E8AC4974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04C-47F4-4C9C-B9D6-51129B6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EF1-3023-4798-BEB8-71150113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5EA2-2A2A-4D3A-B5F9-E6E6932E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687E-D8A7-4ACF-91F9-FA328C11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5020-3DED-42BC-A620-E1A97AD2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CDD-BF18-4F70-BAB2-C4CFDA0A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2CB5-35AC-437F-A7F8-73466C5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1B34-3B49-4663-A9DD-7C3B90B7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31EC-9237-4192-BBDF-2A6BA1C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40B6-84B2-45FE-B5AD-3F258D20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BE08-8F79-4BD7-944B-F7C36836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199-5E18-4804-9629-1D4C0F92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A16-F5EF-4AB6-B945-690D6B5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56D-3A92-4071-BA5F-FC17D46F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EED-351B-4329-8537-B1E5BBE3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02A-72A1-4808-86D4-0E20A57A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6FF-8AB8-4A2A-964A-1E01B8B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A75-3193-4E5D-BB55-4DD8E059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21D-74A7-4EC2-BE9A-A45E1255BA0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C714-580C-4EC6-8D3E-A696A3EC173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Creating Monolog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Using Historical Figures and Inform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Unit 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Students will conduct research on a historical figure.  They will then create a monologue based on their research, remaining true to the character and their finding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Curriculum-Framing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Essential Question:</a:t>
            </a: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 How can individuals make a difference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Unit Question:</a:t>
            </a: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  Who was/is your assigned person of interest and why are they important i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Content Questions:</a:t>
            </a: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  How did (assigned person of interest) make a difference economically in America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How did (assigned person of interest) make a difference socially in America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How did (assigned person of interest) make a difference politically in America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Vision for This Un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With This Unit, I want students to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~ Create an original monologue based on historical inform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~ Reinforce research techniqu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Elephant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Students will be able to develop learning and innovation skills b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Demonstrating originality and inventiveness in their work by creating individual monologu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Understanding interconnections between multiple learning discipl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Articulating thoughts and ideas clearly and effectively through speaking and writin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Elephant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Students will be able to develop information, media, and technology skills b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Accessing information efficiently and effectively, evaluating information critically and competently and using information accurately and creatively within the assigned paramete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Using technology as a tool to research, organize, evaluate and communicate information, and the possession of a fundamental understanding of the ethical/legal issues surrounding the access and use of informati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Elephant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Students will be able to develop life and career skills b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Monitoring one’s own understanding and learning needs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Going beyond basic mastery of skills and/or curriculum to explore and expand one’s own learning and opportunities to gain expertise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Defining, prioritizing and completing tasks without direct oversight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Utilizing time efficiently and managing worklo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Demonstrating commitment to learning as a lifelong proces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5:48Z</dcterms:created>
  <dc:creator>Eldred Central School</dc:creator>
  <dc:description/>
  <dc:language>en-US</dc:language>
  <cp:lastModifiedBy>Eldred Central School</cp:lastModifiedBy>
  <dcterms:modified xsi:type="dcterms:W3CDTF">2010-06-30T18:27:51Z</dcterms:modified>
  <cp:revision>3</cp:revision>
  <dc:subject/>
  <dc:title>Creating Monologues</dc:title>
</cp:coreProperties>
</file>